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831388" cy="73152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238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53640" y="4284360"/>
            <a:ext cx="7921800" cy="238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3865680" cy="238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13000" y="1673280"/>
            <a:ext cx="3865680" cy="238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53640" y="4284360"/>
            <a:ext cx="3865680" cy="238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13000" y="4284360"/>
            <a:ext cx="3865680" cy="238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2550600" cy="238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32040" y="1673280"/>
            <a:ext cx="2550600" cy="238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10800" y="1673280"/>
            <a:ext cx="2550600" cy="238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53640" y="4284360"/>
            <a:ext cx="2550600" cy="238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32040" y="4284360"/>
            <a:ext cx="2550600" cy="238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310800" y="4284360"/>
            <a:ext cx="2550600" cy="238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386568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13000" y="1673280"/>
            <a:ext cx="386568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13880" y="422280"/>
            <a:ext cx="840132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spcAft>
                <a:spcPts val="524"/>
              </a:spcAft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3865680" cy="238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13000" y="1673280"/>
            <a:ext cx="386568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53640" y="4284360"/>
            <a:ext cx="3865680" cy="238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386568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13000" y="1673280"/>
            <a:ext cx="3865680" cy="238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13000" y="4284360"/>
            <a:ext cx="3865680" cy="238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3865680" cy="238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000" y="1673280"/>
            <a:ext cx="3865680" cy="238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53640" y="4284360"/>
            <a:ext cx="7921800" cy="2384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829800" cy="12193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32040">
              <a:spcBef>
                <a:spcPts val="349"/>
              </a:spcBef>
              <a:spcAft>
                <a:spcPts val="524"/>
              </a:spcAft>
              <a:buClr>
                <a:srgbClr val="ffff00"/>
              </a:buClr>
              <a:buFont typeface="Tahoma"/>
              <a:buChar char="•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06992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44000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Font typeface="Tahoma"/>
              <a:buChar char="»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144000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Font typeface="Tahoma"/>
              <a:buChar char="»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144000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Font typeface="Tahoma"/>
              <a:buChar char="»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7391520" y="6553080"/>
            <a:ext cx="2100240" cy="417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claritycon.com/home.asp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claritycon.com/" TargetMode="External"/><Relationship Id="rId3" Type="http://schemas.openxmlformats.org/officeDocument/2006/relationships/hyperlink" Target="http://msdn.microsoft.com/net/security" TargetMode="External"/><Relationship Id="rId4" Type="http://schemas.openxmlformats.org/officeDocument/2006/relationships/hyperlink" Target="http://msdn.microsoft.com/net/security" TargetMode="External"/><Relationship Id="rId5" Type="http://schemas.openxmlformats.org/officeDocument/2006/relationships/hyperlink" Target="http://msdn.microsoft.com/security" TargetMode="External"/><Relationship Id="rId6" Type="http://schemas.openxmlformats.org/officeDocument/2006/relationships/hyperlink" Target="http://msdn.microsoft.com/security" TargetMode="External"/><Relationship Id="rId7" Type="http://schemas.openxmlformats.org/officeDocument/2006/relationships/hyperlink" Target="http://msdn.microsoft.com/library/en-us/dnsoapspec/html/wsspecsover.asp" TargetMode="External"/><Relationship Id="rId8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claritycon.com/home.asp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microsoft.com/technet/security/tools/locktool.asp" TargetMode="External"/><Relationship Id="rId3" Type="http://schemas.openxmlformats.org/officeDocument/2006/relationships/hyperlink" Target="http://www.microsoft.com/technet/security/tools/locktool.asp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900000" y="2600280"/>
            <a:ext cx="83566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9296280" cy="1067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Web Services Security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5638680" y="2666880"/>
            <a:ext cx="39625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spcAft>
                <a:spcPts val="524"/>
              </a:spcAft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Jay Schmelz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275"/>
              </a:spcAft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Partner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275"/>
              </a:spcAft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Clarity Consulting, Inc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275"/>
              </a:spcAft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275"/>
              </a:spcAft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Prerequisites for presentation: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275"/>
              </a:spcAft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Familiar with: 1) XML Web Services; 2) Visual Basic .NET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13"/>
              </a:spcBef>
              <a:spcAft>
                <a:spcPts val="312"/>
              </a:spcAft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Tahoma"/>
              </a:rPr>
              <a:t>Level: Intermediate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514600"/>
            <a:ext cx="541008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800" spc="-1" strike="noStrike">
                <a:solidFill>
                  <a:srgbClr val="ffffff"/>
                </a:solidFill>
                <a:latin typeface="Tahoma"/>
              </a:rPr>
              <a:t>11</a:t>
            </a:r>
            <a:endParaRPr b="0" lang="en-US" sz="2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Control Application Process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cess security contex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Run server processes with limited access privilege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void Administrator rights in production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ample: ASP.NET proc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Minimal access by default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Explicitly grant access to additional resource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Agenda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b Service security concer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nsport level secur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Application level secur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mon Approach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the future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Application Level Security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imary Foc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uthenticating the caller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uthorizing the request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0">
              <a:spcAft>
                <a:spcPts val="689"/>
              </a:spcAft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ffects Application Desig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ffects Web Service Implement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aries based on the appli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1880" indent="0"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re isn’t one right approach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1880"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Secure Application Resources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ure resource connection string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ntegrated security if possibl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LSA for programmatic connection string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ecure default logins (i.e. sa with blank password not good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Demo!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cal Security Authority (LS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Agenda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b Service security concer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nsport level secur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plication level secur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ommon Approach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the future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13880" y="452160"/>
            <a:ext cx="8401320" cy="649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Option 1 - Expanded Parameter List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r credentials passed in parameter l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.e. UserId and Password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alidate the User credenti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quires SSL for all traffic to protect credenti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58720" y="3621240"/>
            <a:ext cx="8763120" cy="1476360"/>
          </a:xfrm>
          <a:prstGeom prst="rect">
            <a:avLst/>
          </a:prstGeom>
          <a:gradFill rotWithShape="0">
            <a:gsLst>
              <a:gs pos="0">
                <a:srgbClr val="5e0000"/>
              </a:gs>
              <a:gs pos="50000">
                <a:srgbClr val="cc0000"/>
              </a:gs>
              <a:gs pos="100000">
                <a:srgbClr val="5e000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Parameter List Details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58720" y="1333440"/>
            <a:ext cx="8763120" cy="5708880"/>
            <a:chOff x="558720" y="1333440"/>
            <a:chExt cx="8763120" cy="5708880"/>
          </a:xfrm>
        </p:grpSpPr>
        <p:sp>
          <p:nvSpPr>
            <p:cNvPr id="78" name=""/>
            <p:cNvSpPr/>
            <p:nvPr/>
          </p:nvSpPr>
          <p:spPr>
            <a:xfrm>
              <a:off x="558720" y="1333440"/>
              <a:ext cx="8763120" cy="57088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58720" y="1345680"/>
              <a:ext cx="8750160" cy="596160"/>
            </a:xfrm>
            <a:prstGeom prst="rect">
              <a:avLst/>
            </a:prstGeom>
            <a:gradFill rotWithShape="0">
              <a:gsLst>
                <a:gs pos="0">
                  <a:srgbClr val="2f4675"/>
                </a:gs>
                <a:gs pos="50000">
                  <a:srgbClr val="6699ff"/>
                </a:gs>
                <a:gs pos="100000">
                  <a:srgbClr val="2f4675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Arial"/>
                </a:rPr>
                <a:t>SOAP Message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666720" y="2036880"/>
            <a:ext cx="64803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?xml version="1.0" encoding="utf-8"?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soap:Envelope ...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soap:Header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/soap:Header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soap:Body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SelectResturaunt ... 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Username&gt;jschmelz&lt;/Username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Password&gt;password&lt;/Password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MaxDistance&gt;5&lt;/MaxDistance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/SelectResturaunt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/soap:Body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/soap:Envelope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Option 2 – Session ID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gin Service Authenticates Us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Uses UserID/Password, etc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Returns a SessionID/Token if authenticated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Uses SSL to encrypt dat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b Service methods requiring authentication accept SessionID/To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SL isn’t required if the data isn’t sensitiv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Session ID Design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84" name=""/>
          <p:cNvSpPr/>
          <p:nvPr/>
        </p:nvSpPr>
        <p:spPr>
          <a:xfrm>
            <a:off x="558720" y="1893960"/>
            <a:ext cx="1224000" cy="46083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2f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li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691080" y="1893960"/>
            <a:ext cx="863280" cy="46083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2f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II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54360" y="1893960"/>
            <a:ext cx="1476720" cy="16207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2f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Logi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Web Servi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54360" y="4881600"/>
            <a:ext cx="1476720" cy="16207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2f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Lunch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Web Servi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499080" y="1893960"/>
            <a:ext cx="1476360" cy="16207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2f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Logi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ompon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99080" y="4881600"/>
            <a:ext cx="1476360" cy="16207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2f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Lunc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ompon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35800" y="3548160"/>
            <a:ext cx="1224000" cy="12967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99ff"/>
              </a:gs>
              <a:gs pos="100000">
                <a:srgbClr val="2f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Applic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D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782720" y="2181240"/>
            <a:ext cx="1871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1819440" y="2793960"/>
            <a:ext cx="1800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819440" y="5133960"/>
            <a:ext cx="183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782720" y="5997600"/>
            <a:ext cx="1836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67440" y="2541600"/>
            <a:ext cx="3952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67440" y="5673600"/>
            <a:ext cx="3952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219800" y="3586320"/>
            <a:ext cx="0" cy="1223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88" idx="3"/>
            <a:endCxn id="90" idx="1"/>
          </p:cNvCxnSpPr>
          <p:nvPr/>
        </p:nvCxnSpPr>
        <p:spPr>
          <a:xfrm>
            <a:off x="7975440" y="2705040"/>
            <a:ext cx="974160" cy="84384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89" idx="3"/>
            <a:endCxn id="90" idx="3"/>
          </p:cNvCxnSpPr>
          <p:nvPr/>
        </p:nvCxnSpPr>
        <p:spPr>
          <a:xfrm flipV="1">
            <a:off x="7975440" y="4844160"/>
            <a:ext cx="974160" cy="8485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960560" y="1908000"/>
            <a:ext cx="142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UserID / Pw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199240" y="2505240"/>
            <a:ext cx="11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SessionI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47880" y="4840200"/>
            <a:ext cx="1866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Passes SessionID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w/Requ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591240" y="3981600"/>
            <a:ext cx="149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Verify Sess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52560" y="1676520"/>
            <a:ext cx="7921440" cy="49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arity Consulting (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www.claritycon.co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hicago based technology consulting firm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Build enterprise class applications using Microsoft’s development tools and server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Have worked with Visual Studio .NET for 3+ years!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artner and Engagement Directo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ctive project leader…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" descr="Clarity Consulti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62640" y="6505560"/>
            <a:ext cx="3467160" cy="8096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About…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58720" y="3657600"/>
            <a:ext cx="8763120" cy="1187280"/>
          </a:xfrm>
          <a:prstGeom prst="rect">
            <a:avLst/>
          </a:prstGeom>
          <a:gradFill rotWithShape="0">
            <a:gsLst>
              <a:gs pos="0">
                <a:srgbClr val="5e0000"/>
              </a:gs>
              <a:gs pos="50000">
                <a:srgbClr val="cc0000"/>
              </a:gs>
              <a:gs pos="100000">
                <a:srgbClr val="5e000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Session ID Details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06" name=""/>
          <p:cNvSpPr/>
          <p:nvPr/>
        </p:nvSpPr>
        <p:spPr>
          <a:xfrm>
            <a:off x="593640" y="2057400"/>
            <a:ext cx="6480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&lt;?xml version="1.0" encoding="utf-8"?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&lt;soap:Envelope ...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&lt;soap:Header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&lt;/soap:Header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&lt;soap:Body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&lt;SelectResturaunt ... 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&lt;SessionID&gt;12-11231-231&lt;/SessionID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&lt;MaxDistance&gt;5&lt;/MaxDistance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&lt;/SelectResturaunt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&lt;/soap:Body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&lt;/soap:Envelope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558720" y="1333440"/>
            <a:ext cx="8763120" cy="5708880"/>
            <a:chOff x="558720" y="1333440"/>
            <a:chExt cx="8763120" cy="5708880"/>
          </a:xfrm>
        </p:grpSpPr>
        <p:sp>
          <p:nvSpPr>
            <p:cNvPr id="108" name=""/>
            <p:cNvSpPr/>
            <p:nvPr/>
          </p:nvSpPr>
          <p:spPr>
            <a:xfrm>
              <a:off x="558720" y="1333440"/>
              <a:ext cx="8763120" cy="57088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58720" y="1345680"/>
              <a:ext cx="8750160" cy="596160"/>
            </a:xfrm>
            <a:prstGeom prst="rect">
              <a:avLst/>
            </a:prstGeom>
            <a:gradFill rotWithShape="0">
              <a:gsLst>
                <a:gs pos="0">
                  <a:srgbClr val="2f4675"/>
                </a:gs>
                <a:gs pos="50000">
                  <a:srgbClr val="6699ff"/>
                </a:gs>
                <a:gs pos="100000">
                  <a:srgbClr val="2f4675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Arial"/>
                </a:rPr>
                <a:t>SOAP Message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Demo!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ssionID implement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Option 3 – SOAP Headers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r Identification passed via SOAP Head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ould be user credentials or SessionID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b Service pulls User info from the Header and validates the us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quires SSL if passing user credenti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58720" y="4541760"/>
            <a:ext cx="8763120" cy="916200"/>
          </a:xfrm>
          <a:prstGeom prst="rect">
            <a:avLst/>
          </a:prstGeom>
          <a:gradFill rotWithShape="0">
            <a:gsLst>
              <a:gs pos="0">
                <a:srgbClr val="5e0000"/>
              </a:gs>
              <a:gs pos="50000">
                <a:srgbClr val="cc0000"/>
              </a:gs>
              <a:gs pos="100000">
                <a:srgbClr val="5e000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68440" y="2973240"/>
            <a:ext cx="8762760" cy="974880"/>
          </a:xfrm>
          <a:prstGeom prst="rect">
            <a:avLst/>
          </a:prstGeom>
          <a:gradFill rotWithShape="0">
            <a:gsLst>
              <a:gs pos="0">
                <a:srgbClr val="5e0000"/>
              </a:gs>
              <a:gs pos="50000">
                <a:srgbClr val="cc0000"/>
              </a:gs>
              <a:gs pos="100000">
                <a:srgbClr val="5e000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SOAP Headers Overview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17" name=""/>
          <p:cNvSpPr/>
          <p:nvPr/>
        </p:nvSpPr>
        <p:spPr>
          <a:xfrm>
            <a:off x="666720" y="2036880"/>
            <a:ext cx="64803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&lt;?xml version="1.0" encoding="utf-8"?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&lt;soap:Envelope ...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&lt;soap:Header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&lt;SessionId ...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&lt;Value&gt;12-12314-12313&lt;/Value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&lt;/SessionId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&lt;/soap:Header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&lt;soap:Body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&lt;SelectResturaunt ... 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&lt;MaxDistance&gt;5&lt;/MaxDistance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&lt;/SelectResturaunt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&lt;/soap:Body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&lt;/soap:Envelope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58720" y="1333440"/>
            <a:ext cx="8763120" cy="5708880"/>
            <a:chOff x="558720" y="1333440"/>
            <a:chExt cx="8763120" cy="5708880"/>
          </a:xfrm>
        </p:grpSpPr>
        <p:sp>
          <p:nvSpPr>
            <p:cNvPr id="119" name=""/>
            <p:cNvSpPr/>
            <p:nvPr/>
          </p:nvSpPr>
          <p:spPr>
            <a:xfrm>
              <a:off x="558720" y="1333440"/>
              <a:ext cx="8763120" cy="57088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58720" y="1345680"/>
              <a:ext cx="8750160" cy="596160"/>
            </a:xfrm>
            <a:prstGeom prst="rect">
              <a:avLst/>
            </a:prstGeom>
            <a:gradFill rotWithShape="0">
              <a:gsLst>
                <a:gs pos="0">
                  <a:srgbClr val="2f4675"/>
                </a:gs>
                <a:gs pos="50000">
                  <a:srgbClr val="6699ff"/>
                </a:gs>
                <a:gs pos="100000">
                  <a:srgbClr val="2f4675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Arial"/>
                </a:rPr>
                <a:t>SOAP Message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SOAP Headers Details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 specific to ASP.NET Web Servi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mple API with ASP.N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nherit from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oapHeader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Use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oapHeaderAttribute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presented in WSD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Describes SOAP Header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roxy generation is automatic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Demo!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AP Header implement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Option 4 – Encryption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lectively Encrypt SOAP Messag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omplete messages or message part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Not required for entire servic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es not require SS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o you avoid the performance hit for every messag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re not tied to HTTP(S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SOAP Serialization Overview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28" name=""/>
          <p:cNvSpPr/>
          <p:nvPr/>
        </p:nvSpPr>
        <p:spPr>
          <a:xfrm>
            <a:off x="666720" y="1712880"/>
            <a:ext cx="8677440" cy="1584360"/>
          </a:xfrm>
          <a:prstGeom prst="rect">
            <a:avLst/>
          </a:prstGeom>
          <a:noFill/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Black"/>
              </a:rPr>
              <a:t>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82720" y="2324160"/>
            <a:ext cx="2087640" cy="5047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2f46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lass / Typ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79800" y="2325600"/>
            <a:ext cx="2087640" cy="50508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2f46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Serializ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075440" y="2325600"/>
            <a:ext cx="2087640" cy="50508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2f46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XM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03440" y="1700280"/>
            <a:ext cx="864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Serializ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78000" y="2433600"/>
            <a:ext cx="828720" cy="287280"/>
          </a:xfrm>
          <a:prstGeom prst="rightArrow">
            <a:avLst>
              <a:gd name="adj1" fmla="val 50000"/>
              <a:gd name="adj2" fmla="val 72118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38720" y="2433600"/>
            <a:ext cx="828720" cy="287280"/>
          </a:xfrm>
          <a:prstGeom prst="rightArrow">
            <a:avLst>
              <a:gd name="adj1" fmla="val 50000"/>
              <a:gd name="adj2" fmla="val 72118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66720" y="4557600"/>
            <a:ext cx="8677440" cy="1584360"/>
          </a:xfrm>
          <a:prstGeom prst="rect">
            <a:avLst/>
          </a:prstGeom>
          <a:noFill/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Black"/>
              </a:rPr>
              <a:t>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82720" y="5168880"/>
            <a:ext cx="2087640" cy="5047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2f46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XM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979800" y="5170320"/>
            <a:ext cx="2087640" cy="50508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2f46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Serializ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075440" y="5170320"/>
            <a:ext cx="2087640" cy="50508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2f46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lass / Typ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3440" y="4545000"/>
            <a:ext cx="864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Deserializ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78000" y="5278320"/>
            <a:ext cx="828720" cy="287280"/>
          </a:xfrm>
          <a:prstGeom prst="rightArrow">
            <a:avLst>
              <a:gd name="adj1" fmla="val 50000"/>
              <a:gd name="adj2" fmla="val 72118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38720" y="5278320"/>
            <a:ext cx="828720" cy="287280"/>
          </a:xfrm>
          <a:prstGeom prst="rightArrow">
            <a:avLst>
              <a:gd name="adj1" fmla="val 50000"/>
              <a:gd name="adj2" fmla="val 72118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82720" y="3693960"/>
            <a:ext cx="8280360" cy="5050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SOA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3" name=""/>
          <p:cNvCxnSpPr>
            <a:stCxn id="131" idx="2"/>
            <a:endCxn id="136" idx="0"/>
          </p:cNvCxnSpPr>
          <p:nvPr/>
        </p:nvCxnSpPr>
        <p:spPr>
          <a:xfrm rot="5400000">
            <a:off x="3853800" y="902880"/>
            <a:ext cx="2338920" cy="6193800"/>
          </a:xfrm>
          <a:prstGeom prst="curvedConnector5">
            <a:avLst>
              <a:gd name="adj1" fmla="val 49953"/>
              <a:gd name="adj2" fmla="val 50000"/>
              <a:gd name="adj3" fmla="val 49953"/>
            </a:avLst>
          </a:prstGeom>
          <a:ln w="15840">
            <a:solidFill>
              <a:srgbClr val="ffffff"/>
            </a:solidFill>
            <a:miter/>
            <a:tailEnd len="med" type="triangle" w="med"/>
          </a:ln>
        </p:spPr>
      </p:cxn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SOAP Extensions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apExtension Cla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ystem.Web.Services.Protocols Namespac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Base Class to inherit from for custom attribute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rocessMessage method called at each stage of serialization and deserialization of the SOAP messag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Four Attribute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3" marL="1069920" indent="0">
              <a:spcBef>
                <a:spcPts val="451"/>
              </a:spcBef>
              <a:buNone/>
              <a:tabLst>
                <a:tab algn="l" pos="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foreSerialize, AfterSerialize,  BeforeDeserialize, AfterDeserializ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61880"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Process Message Example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 fontScale="96000"/>
          </a:bodyPr>
          <a:p>
            <a:pPr marL="443160" indent="0">
              <a:lnSpc>
                <a:spcPct val="80000"/>
              </a:lnSpc>
              <a:spcBef>
                <a:spcPts val="224"/>
              </a:spcBef>
              <a:spcAft>
                <a:spcPts val="337"/>
              </a:spcAft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ublic Overrides Sub ProcessMessage(message As SoapMessage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84800" indent="0">
              <a:lnSpc>
                <a:spcPct val="80000"/>
              </a:lnSpc>
              <a:spcAft>
                <a:spcPts val="561"/>
              </a:spcAft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lect Case message.Stag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84800" indent="0">
              <a:lnSpc>
                <a:spcPct val="80000"/>
              </a:lnSpc>
              <a:spcAft>
                <a:spcPts val="561"/>
              </a:spcAft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84800" indent="0">
              <a:lnSpc>
                <a:spcPct val="80000"/>
              </a:lnSpc>
              <a:spcAft>
                <a:spcPts val="561"/>
              </a:spcAft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ase SoapMessageStage.BeforeSerializ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84800" indent="0">
              <a:lnSpc>
                <a:spcPct val="80000"/>
              </a:lnSpc>
              <a:spcAft>
                <a:spcPts val="561"/>
              </a:spcAft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84800" indent="0">
              <a:lnSpc>
                <a:spcPct val="80000"/>
              </a:lnSpc>
              <a:spcAft>
                <a:spcPts val="561"/>
              </a:spcAft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ase SoapMessageStage.AfterSerializ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84800" indent="0">
              <a:lnSpc>
                <a:spcPct val="80000"/>
              </a:lnSpc>
              <a:spcAft>
                <a:spcPts val="561"/>
              </a:spcAft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ncrypt(message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84800" indent="0">
              <a:lnSpc>
                <a:spcPct val="80000"/>
              </a:lnSpc>
              <a:spcAft>
                <a:spcPts val="561"/>
              </a:spcAft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84800" indent="0">
              <a:lnSpc>
                <a:spcPct val="80000"/>
              </a:lnSpc>
              <a:spcAft>
                <a:spcPts val="561"/>
              </a:spcAft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ase SoapMessageStage.BeforeDeserializ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84800" indent="0">
              <a:lnSpc>
                <a:spcPct val="80000"/>
              </a:lnSpc>
              <a:spcAft>
                <a:spcPts val="561"/>
              </a:spcAft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crypt(message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84800" indent="0">
              <a:lnSpc>
                <a:spcPct val="80000"/>
              </a:lnSpc>
              <a:spcAft>
                <a:spcPts val="561"/>
              </a:spcAft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84800" indent="0">
              <a:lnSpc>
                <a:spcPct val="80000"/>
              </a:lnSpc>
              <a:spcAft>
                <a:spcPts val="561"/>
              </a:spcAft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ase SoapMessageStage.AfterDeserializ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84800" indent="0">
              <a:lnSpc>
                <a:spcPct val="80000"/>
              </a:lnSpc>
              <a:spcAft>
                <a:spcPts val="561"/>
              </a:spcAft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84800" indent="0">
              <a:lnSpc>
                <a:spcPct val="80000"/>
              </a:lnSpc>
              <a:spcAft>
                <a:spcPts val="561"/>
              </a:spcAft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ase El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84800" indent="0">
              <a:lnSpc>
                <a:spcPct val="80000"/>
              </a:lnSpc>
              <a:spcAft>
                <a:spcPts val="561"/>
              </a:spcAft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hrow New Exception("invalid stage"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84800" indent="0">
              <a:lnSpc>
                <a:spcPct val="80000"/>
              </a:lnSpc>
              <a:spcAft>
                <a:spcPts val="561"/>
              </a:spcAft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nd Selec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43160" indent="0">
              <a:lnSpc>
                <a:spcPct val="80000"/>
              </a:lnSpc>
              <a:spcBef>
                <a:spcPts val="224"/>
              </a:spcBef>
              <a:spcAft>
                <a:spcPts val="337"/>
              </a:spcAft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nd Su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Agenda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b Service security concer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nsport level secur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plication level secur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mon Approach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the future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Custom Encryption Details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crypt Soap Mess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erver: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AfterSerializ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onsumer: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BeforeDeserializ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rive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SoapExtens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lnSpc>
                <a:spcPct val="100000"/>
              </a:lnSpc>
              <a:spcAft>
                <a:spcPts val="689"/>
              </a:spcAft>
              <a:buClr>
                <a:srgbClr val="ffffff"/>
              </a:buClr>
              <a:buFont typeface="Courier New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EncyrptionExtension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attribut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No knowledge of encryption required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milar to header authenti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Transport independent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Route valid SOAP message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Demo!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stom Encryption implement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Agenda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b Service security concer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nsport level secur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plication level secur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mon Approach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In the future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Future Standards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ML Signat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XML syntax for creating and representing digital signature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ML Encryp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rocess for encrypting data within an XML document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S-Secur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OAP enhancements to pass security credential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Builds on XML Signature / XML Encryption / WS-Licens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0">
              <a:spcAft>
                <a:spcPts val="689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Extensible Model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57" name=""/>
          <p:cNvSpPr/>
          <p:nvPr/>
        </p:nvSpPr>
        <p:spPr>
          <a:xfrm>
            <a:off x="2251080" y="5097600"/>
            <a:ext cx="7020000" cy="936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OAP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Found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51080" y="4125960"/>
            <a:ext cx="7020000" cy="9367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WS-Secur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51080" y="3117960"/>
            <a:ext cx="2303280" cy="936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WS-Polic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91080" y="3117960"/>
            <a:ext cx="2303280" cy="936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WS-Tru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967440" y="3117960"/>
            <a:ext cx="2303640" cy="936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WS-Privac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51080" y="2144880"/>
            <a:ext cx="2303280" cy="936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WS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ecu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91080" y="2144880"/>
            <a:ext cx="2303280" cy="936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WS-Feder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967440" y="2144880"/>
            <a:ext cx="2303640" cy="936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WS-Authoriz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7600" y="4405320"/>
            <a:ext cx="83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Toda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6" name=""/>
          <p:cNvCxnSpPr/>
          <p:nvPr/>
        </p:nvCxnSpPr>
        <p:spPr>
          <a:xfrm>
            <a:off x="1601280" y="4593960"/>
            <a:ext cx="675720" cy="54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7" name=""/>
          <p:cNvSpPr/>
          <p:nvPr/>
        </p:nvSpPr>
        <p:spPr>
          <a:xfrm>
            <a:off x="1530360" y="2181240"/>
            <a:ext cx="504720" cy="3781440"/>
          </a:xfrm>
          <a:prstGeom prst="upArrow">
            <a:avLst>
              <a:gd name="adj1" fmla="val 36481"/>
              <a:gd name="adj2" fmla="val 14027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Resources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presentation and sample co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0">
              <a:spcAft>
                <a:spcPts val="689"/>
              </a:spcAft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 u="sng">
                <a:solidFill>
                  <a:srgbClr val="6699ff"/>
                </a:solidFill>
                <a:uFillTx/>
                <a:latin typeface="Tahoma"/>
                <a:hlinkClick r:id="rId2"/>
              </a:rPr>
              <a:t>www.claritycon.com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SDN Security site(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0">
              <a:spcAft>
                <a:spcPts val="689"/>
              </a:spcAft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 u="sng">
                <a:solidFill>
                  <a:srgbClr val="6699ff"/>
                </a:solidFill>
                <a:uFillTx/>
                <a:latin typeface="Tahoma"/>
                <a:hlinkClick r:id="rId3"/>
              </a:rPr>
              <a:t>msdn.microsoft.com</a:t>
            </a:r>
            <a:r>
              <a:rPr b="0" lang="en-US" sz="2200" spc="-1" strike="noStrike" u="sng">
                <a:solidFill>
                  <a:srgbClr val="6699ff"/>
                </a:solidFill>
                <a:uFillTx/>
                <a:latin typeface="Tahoma"/>
                <a:hlinkClick r:id="rId4"/>
              </a:rPr>
              <a:t>/net/security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0">
              <a:spcAft>
                <a:spcPts val="689"/>
              </a:spcAft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 u="sng">
                <a:solidFill>
                  <a:srgbClr val="6699ff"/>
                </a:solidFill>
                <a:uFillTx/>
                <a:latin typeface="Tahoma"/>
                <a:hlinkClick r:id="rId5"/>
              </a:rPr>
              <a:t>msdn.microsoft.com</a:t>
            </a:r>
            <a:r>
              <a:rPr b="0" lang="en-US" sz="2200" spc="-1" strike="noStrike" u="sng">
                <a:solidFill>
                  <a:srgbClr val="6699ff"/>
                </a:solidFill>
                <a:uFillTx/>
                <a:latin typeface="Tahoma"/>
                <a:hlinkClick r:id="rId6"/>
              </a:rPr>
              <a:t>/security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ndar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0">
              <a:spcAft>
                <a:spcPts val="689"/>
              </a:spcAft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 u="sng">
                <a:solidFill>
                  <a:srgbClr val="6699ff"/>
                </a:solidFill>
                <a:uFillTx/>
                <a:latin typeface="Tahoma"/>
                <a:hlinkClick r:id="rId7"/>
              </a:rPr>
              <a:t>msdn.microsoft.com/library/en-us/dnsoapspec/html/wsspecsover.asp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0">
              <a:spcAft>
                <a:spcPts val="689"/>
              </a:spcAft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Questions?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343080"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tact me: Jay Schmelz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Email: jschmelz@claritycon.com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re info on Clarity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www.claritycon.com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www.ClarityKnows.net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" descr="Clarity Consulti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62640" y="6505560"/>
            <a:ext cx="3467160" cy="80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Primary Security Concerns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uthoriz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Two Levels of Web Service Security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tform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Leverages network / transport protocol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Leverages hardware / operating system platform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Typically configuration / administration intensiv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plication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Design implication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Requires us to account for security during development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th are required for a secure Web Serv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Agenda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b Service security concer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latform level secur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plication level secur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mon Approach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the future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Platform Security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imary foc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vailability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ntegrity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rivacy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ary Foc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uthentication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uthorization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0">
              <a:spcAft>
                <a:spcPts val="689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Transport Level Security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mplements IP Authentication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sic Authenti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upported via HTTP protocol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Use SSL to encrypt the userid/password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ent certificates (X.509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Well suited for server to server interaction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ituations with well known client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13880" y="422280"/>
            <a:ext cx="8401320" cy="64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ctr">
            <a:noAutofit/>
          </a:bodyPr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Web Server Security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3640" y="1673280"/>
            <a:ext cx="7921800" cy="4998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rmAutofit/>
          </a:bodyPr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ckdown your serv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Disable used service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Keep up with security fixe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IS Lockdown Wizard (v2.1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 u="sng">
                <a:solidFill>
                  <a:srgbClr val="6699ff"/>
                </a:solidFill>
                <a:uFillTx/>
                <a:latin typeface="Tahoma"/>
                <a:hlinkClick r:id="rId2"/>
              </a:rPr>
              <a:t>www.microsoft.com/</a:t>
            </a:r>
            <a:r>
              <a:rPr b="0" lang="en-US" sz="2200" spc="-1" strike="noStrike" u="sng">
                <a:solidFill>
                  <a:srgbClr val="6699ff"/>
                </a:solidFill>
                <a:uFillTx/>
                <a:latin typeface="Tahoma"/>
                <a:hlinkClick r:id="rId3"/>
              </a:rPr>
              <a:t>technet/security/tools/locktool.asp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61880" indent="-461880">
              <a:spcBef>
                <a:spcPts val="349"/>
              </a:spcBef>
              <a:spcAft>
                <a:spcPts val="524"/>
              </a:spcAft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udit activities on the web serv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817560" indent="-241200">
              <a:spcAft>
                <a:spcPts val="689"/>
              </a:spcAft>
              <a:buClr>
                <a:srgbClr val="ffffff"/>
              </a:buClr>
              <a:buFont typeface="Tahoma"/>
              <a:buChar char="–"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nd look at the logs!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1T18:58:05Z</dcterms:created>
  <dc:creator>Jay Schmelzer</dc:creator>
  <dc:description>Copyright 2000 Fawcette Technical Publications, all rights reserved.</dc:description>
  <cp:keywords>VCDC VBITS SQL2THEMAX BUILDER</cp:keywords>
  <dc:language>en-US</dc:language>
  <cp:lastModifiedBy>Jay Schmelzer</cp:lastModifiedBy>
  <cp:lastPrinted>1998-07-04T09:05:35Z</cp:lastPrinted>
  <dcterms:modified xsi:type="dcterms:W3CDTF">2002-04-18T13:47:46Z</dcterms:modified>
  <cp:revision>332</cp:revision>
  <dc:subject>Fawcette Technical Publications Conferences</dc:subject>
  <dc:title>XML Templates and SQL Server 2000</dc:title>
</cp:coreProperties>
</file>